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F685-5820-4782-852F-EB430CC8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704-02F8-43B7-9CE1-D9349E9C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0D75-CA53-4B3D-A020-51111DCA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7D4-6DD0-451E-919E-55AD4283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042A-F9A3-4460-AB5E-BE29D1B6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04A6-2D15-4E3C-BFBB-F08BAB4B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0941-15F3-4CB2-A6C1-8478DF78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528A-E103-471B-B96F-A43B95FB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042D-B4A4-42F1-ADEF-F3F3254B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3E50-5B4C-4AB6-B3A3-7E76B11A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3CED-60ED-4E98-8A30-13C6AFFC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C28B-AB2D-40E2-B704-0857FF96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6C2C-0980-453C-94F9-424F8044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6CCE-54BA-4008-8D4D-2B4EBA86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1C0E-DCDF-489F-ACEA-70302726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CA81-3264-431E-B5B0-910F6352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62DA-5FF6-4EB7-B080-1BDB5246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076-7317-4DC4-BEA6-10801B18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9F49-8E0C-4552-A78D-C84643F4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1F1-9D47-49A2-A27F-9DA68AD6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024-AD2A-429D-A8AC-93F7FB84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FB65-F31F-4A15-801C-CB92A571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49A-CC41-41C7-A5D0-ADC5775B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FD2-42E3-4FAD-94E4-BBF6CC81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E046-7077-41D7-986E-F93753A4FF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61D4-5B20-442C-84B7-092C111F61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cc00"/>
                </a:solidFill>
                <a:latin typeface="Arial"/>
              </a:rPr>
              <a:t>Me llamo ________      Clase 6NH(602) </a:t>
            </a:r>
            <a:br>
              <a:rPr sz="3400"/>
            </a:br>
            <a:r>
              <a:rPr b="0" lang="en-US" sz="3400" spc="-1" strike="noStrike">
                <a:solidFill>
                  <a:srgbClr val="99cc00"/>
                </a:solidFill>
                <a:latin typeface="Arial"/>
              </a:rPr>
              <a:t>La fecha es el 25 de octobre del 2012   </a:t>
            </a:r>
            <a:endParaRPr b="0" lang="en-US" sz="3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53416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0000"/>
                </a:solidFill>
                <a:latin typeface="Verdana"/>
              </a:rPr>
              <a:t>Propósito # 15: 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¿Para que clases estudias much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exto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pia y responde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Verdana"/>
              </a:rPr>
              <a:t>Entrevista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p. R1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,….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4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are the rules for the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CONJUGATION  (“-ar” verbs)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ronouns in ord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d and take out the infinitive ending of the verb (“-ar”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place the “-ar” with the correct end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410080" y="1676520"/>
          <a:ext cx="3581640" cy="4495320"/>
        </p:xfrm>
        <a:graphic>
          <a:graphicData uri="http://schemas.openxmlformats.org/drawingml/2006/table">
            <a:tbl>
              <a:tblPr/>
              <a:tblGrid>
                <a:gridCol w="1791000"/>
                <a:gridCol w="1790640"/>
              </a:tblGrid>
              <a:tr h="640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Mirar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ds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434880" y="29448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4880" y="3429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4880" y="4662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1752480"/>
            <a:ext cx="4572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1752480"/>
            <a:ext cx="45720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315200" y="1752480"/>
            <a:ext cx="45720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54320" y="2286000"/>
            <a:ext cx="87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99cc00"/>
                </a:solidFill>
                <a:latin typeface="Arial"/>
              </a:rPr>
              <a:t>Mir</a:t>
            </a:r>
            <a:r>
              <a:rPr b="1" lang="es-ES_tradnl" sz="26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560" y="2895480"/>
            <a:ext cx="104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99cc00"/>
                </a:solidFill>
                <a:latin typeface="Arial"/>
              </a:rPr>
              <a:t>Mir</a:t>
            </a:r>
            <a:r>
              <a:rPr b="1" lang="es-ES_tradnl" sz="2600" spc="-1" strike="noStrike" u="sng">
                <a:solidFill>
                  <a:srgbClr val="0000ff"/>
                </a:solidFill>
                <a:uFillTx/>
                <a:latin typeface="Arial"/>
              </a:rPr>
              <a:t>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560" y="3733920"/>
            <a:ext cx="86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99cc00"/>
                </a:solidFill>
                <a:latin typeface="Arial"/>
              </a:rPr>
              <a:t>Mir</a:t>
            </a:r>
            <a:r>
              <a:rPr b="1" lang="es-ES_tradnl" sz="26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560" y="4572000"/>
            <a:ext cx="154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99cc00"/>
                </a:solidFill>
                <a:latin typeface="Arial"/>
              </a:rPr>
              <a:t>Mir</a:t>
            </a:r>
            <a:r>
              <a:rPr b="1" lang="es-ES_tradnl" sz="2600" spc="-1" strike="noStrike" u="sng">
                <a:solidFill>
                  <a:srgbClr val="0000ff"/>
                </a:solidFill>
                <a:uFillTx/>
                <a:latin typeface="Arial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44880" y="5334120"/>
            <a:ext cx="106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99cc00"/>
                </a:solidFill>
                <a:latin typeface="Arial"/>
              </a:rPr>
              <a:t>Mir</a:t>
            </a:r>
            <a:r>
              <a:rPr b="1" lang="es-ES_tradnl" sz="2600" spc="-1" strike="noStrike" u="sng">
                <a:solidFill>
                  <a:srgbClr val="0000ff"/>
                </a:solidFill>
                <a:uFillTx/>
                <a:latin typeface="Arial"/>
              </a:rPr>
              <a:t>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37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actica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juga los verbos.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036800"/>
          <a:ext cx="8381880" cy="5668920"/>
        </p:xfrm>
        <a:graphic>
          <a:graphicData uri="http://schemas.openxmlformats.org/drawingml/2006/table">
            <a:tbl>
              <a:tblPr/>
              <a:tblGrid>
                <a:gridCol w="2095560"/>
                <a:gridCol w="2097000"/>
                <a:gridCol w="2094120"/>
                <a:gridCol w="209520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</a:t>
                      </a:r>
                      <a:r>
                        <a:rPr b="0" lang="es-ES_tradnl" sz="25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Tocar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</a:t>
                      </a:r>
                      <a:r>
                        <a:rPr b="0" lang="es-ES_tradnl" sz="25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Canta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</a:t>
                      </a:r>
                      <a:r>
                        <a:rPr b="0" lang="es-ES_tradnl" sz="25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Prepara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</a:t>
                      </a:r>
                      <a:r>
                        <a:rPr b="0" lang="es-ES_tradnl" sz="25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Toma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jercicio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pia y completa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Historieta 5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p. R13 (1-6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KBOO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leta p. R8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&amp;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R1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2666880"/>
            <a:ext cx="731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area # 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5:36:31Z</dcterms:created>
  <dc:creator>Helen Zumaeta</dc:creator>
  <dc:description/>
  <dc:language>en-US</dc:language>
  <cp:lastModifiedBy>Helen Zumaeta</cp:lastModifiedBy>
  <dcterms:modified xsi:type="dcterms:W3CDTF">2012-10-25T16:53:12Z</dcterms:modified>
  <cp:revision>16</cp:revision>
  <dc:subject/>
  <dc:title>Me llamo ________ Clase 6NH La fecha es el 15 de febrero del 2012</dc:title>
</cp:coreProperties>
</file>